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EAE-CBE3-4386-ABE9-E1ADDCD3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704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4E8-0CE3-493A-93B7-33256B5E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6B0-CA81-4BBF-AE9B-3C8269FE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D925-BECD-4C6B-8648-7B29AC9B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42A95-5C97-4C57-8CA7-79380126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57E9-4F3D-4172-890F-6A3B3650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689D-DF72-46E5-8524-0254133E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A616-0FE2-49F2-8808-B8E68E67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721D-52DC-469A-8F23-1B7CBC4D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607A-BA39-408A-B81B-0C7169F1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6A7B-D266-4591-8995-4E155839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6E8-FB93-4EEC-81BE-C857EA3F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5651-ED17-45F0-B808-EDE7DF6B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3CE9-CB24-4309-8A32-18AB2796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704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D7E6-FD58-4211-9BAF-6D029F46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D7A6-C574-4D7A-B606-DBBAA927C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704840"/>
            <a:ext cx="264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0C22-2C72-4F0B-972E-080AAAB2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8AA-5FBD-4BA1-903C-D2E71978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F57-E3D2-408F-8EEF-49DAFFCB6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5FB-91E7-4860-921E-FE70FB1D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F1D-07C8-4713-B0A4-CB1D6632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949-C13A-45C0-8339-1C67F0C3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70484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D29-7290-4CDD-8EC8-2CDF6100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704840"/>
            <a:ext cx="82296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D7C-BC1B-4FDE-B751-B982CCC0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6549-D229-4A66-8CA7-A910031CE9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EA9D-D782-4D72-89E1-E31B697032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hapter 18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INDUSTRIAL SOCIET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6583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roads, 1870 and 189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blems of Grow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01000" cy="58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se competition among railro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orts to share freight in an orderly way f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Panic of 1893, bankers gain control of  railroad corpo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ers impose order by consolidating to eliminate competition, increase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00, seven giant rail systems do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 Industrial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ssemer process of refining steel permits mass produ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steel changes agriculture, manufacturing, transportation,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negie and Ste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099880"/>
            <a:ext cx="815328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-scale steel production requ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o iron ore deposits in Minneso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ve transportation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ments lead to “vertical integr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 A type of organization in which a single company owns and controls the entire process from obtaining raw materials to manufacture and sale of the finished pro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rnegie and Stee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2099880"/>
            <a:ext cx="800100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2: Andrew Carnegie enters steel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01, Carnegie employs 20,000 and produces more steel than Great Bri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ls out to J. P. Mo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gan heads incorporation of the United States Steel Comp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national Steel Production, 1880–191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286000" y="1676520"/>
            <a:ext cx="452448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ockefeller and Oi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roleum profitable as kerosene for ligh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59: First oil well drilled in Pennsylvan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63: John D. Rockefeller organizes Standard Oil Company of Oh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ckefeller lowers costs, improves quality, establishes efficient marketing 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Oil Trust centralizes Rockefeller control of member companies outside Oh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usiness of Inven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nineteenth-century industry leads to new American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ge of I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graph, camera, processed foods, telephone, phonograph, incandescent lam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ty in growing use by 1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tents Issued, by Decade, 1850–1899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672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ell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2099880"/>
            <a:ext cx="807696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becomes a science in late 18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ertising becomes co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ways of selling include chain store, department store, brand name, mail-or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become a community of consu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ustrial Develop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 nineteenth-century U.S. offers ideal conditions for rapid industrial growth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undance of cheap natur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pools of la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free trade market in the wor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, government support without reg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growth 1865–19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Wage Earne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2099880"/>
            <a:ext cx="815328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abor of millions of men and women built the new industrial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5–1900 real wages rose, working conditions improved, and workers’ national influence incre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and educational services expanded benefiting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ing Men, Working Women, Working Child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low w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erage wages: $400-500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ary required for decent living: $600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gerous work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lroad injury rate: 1 in 26, death rate 1 in 3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y workers suffer chronic illness from pollut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ing Men, Working Women, Working Child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sition of the labor force by 1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 wom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represented in 296 of 303 occup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% of girls employed, 20% of boy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 labor” means under 1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hildren poorly p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receive much lower wage than bo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ing Men, Working Women, Working Child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women’s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young and si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% of married African American women work in 19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women’s j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ove into clerical po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ew occupy professional pos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ing women’s earnings unequal to men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ing Men, Working Women, Working Child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iminatory wage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ults earn more than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 earn nearly twice as much as wo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tes earn more than blacks or As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stants earn more than Catholics or J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 workers earn less at every level and 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ese suffer periodic 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9: California constitution forbids corporations to hire Chin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82: Federal Chinese Exclusion Act prohibits Chinese immigration for 1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lture of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tory work habits demand adjustments for  immigrants, rural fol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adjust well enough to ad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more see children advance to better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or Un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labor unions like fraternal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6: Samuel Gompers founds American Federation of La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F.L. seeks practical improvements for wages, working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skilled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gnores women, African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or Un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567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ssed purpo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es seek to humanize the facto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ers try to apply strict laws of the mark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ts come down on side of owners with injunctions against stri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ra of stri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7: Rail strikes nearly shut down system, over 100 workers killed in suppressing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0–1900: 23,000 stri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or Unres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6: Chicago Haymarket incident prompts fears of anarchist upr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2: Coeur d’Alene silver strike crushed by federal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2: Homestead steel str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kerton detectives as strikebreaking ar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nkertons in gun battle with stri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militia called into restore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mpted assassination of Carnegie partner Henry Clay F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bor Strikes, 1870–189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 Empire on Rai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industrial economy based on expansion of the railro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mships made Atlantic crossings twice as f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legraph and telephone transformed commun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ustrialization’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enefits and Cos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of rapid indust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n national power and weal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ing standard of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cost of indust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un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disparity between rich and p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power of giant corpo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"Emblem of Motion and Power"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575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transform Americ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 rural iso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regional economic spec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mass production, consumption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 to organization of modern corpor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ate other indus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capture the imagination of the Americ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the Empi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5–1916: U.S. lays over 200,000 miles of track costing billions of doll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es met by government at all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railroad grants prompt cor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0–1945: Railroads save government $1 billion in freight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Land Grants to Railroads as of 1871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ailroad Construction, 1830–192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23888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nking the Nation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via Trunk Li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integrated rail system before Civil W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1860 construction and consolidation of trunk lines proceeds rapid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 linked directly with Great Lakes,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railroad system integrated in 1880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 transportation becomes safe, fast, rel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ails Across the Contin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2: Congress authorizes the transcontinental railro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 Pacific works westward from Nebraska using Irish labo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Pacific works eastward using Chinese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0, 1869: Tracks meet in Ut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00, four more lines to Pa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7T16:48:58Z</dcterms:created>
  <dc:creator>Timothy Hall</dc:creator>
  <dc:description/>
  <cp:keywords/>
  <dc:language>en-US</dc:language>
  <cp:lastModifiedBy>Teresa Ward User</cp:lastModifiedBy>
  <cp:lastPrinted>2009-03-15T17:09:07Z</cp:lastPrinted>
  <dcterms:modified xsi:type="dcterms:W3CDTF">2006-11-09T17:51:59Z</dcterms:modified>
  <cp:revision>12</cp:revision>
  <dc:subject/>
  <dc:title>THE INDUSTRIAL SOCIETY</dc:title>
</cp:coreProperties>
</file>